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D22-4D8C-479B-9CCD-82FF2165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627-B898-4810-AA3A-41B9291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859-029F-4CDC-AC9A-885E64D1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5D9-8C28-4B76-A3C4-D761EB15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320-6133-4515-AAFE-FBFB9D1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41E-041E-4D63-889A-D8E4C0B2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802-FCEC-426E-89F0-ED1F740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ACD-9351-42AA-ADD6-966D6566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13E-D15B-4CEC-B071-EEFF5F9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A3A-C187-469B-8F78-7CA13A6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8F3-3545-47B5-9A6F-21866B2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36E-E6E5-4775-8C0C-ED40047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F073-000C-4F5B-9EC8-4E39BB0A8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03480" y="731880"/>
            <a:ext cx="626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47920" y="38088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Order of Operations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7920" y="-10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-792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5" name="Rectangle 45"/>
          <p:cNvSpPr/>
          <p:nvPr/>
        </p:nvSpPr>
        <p:spPr>
          <a:xfrm>
            <a:off x="0" y="1606680"/>
            <a:ext cx="914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6" name="Picture 48" descr="C:\Documents and Settings\Owner\Application Data\Microsoft\Media Catalog\Downloaded Clips\cl0\AG00314_.gif"/>
          <p:cNvPicPr/>
          <p:nvPr/>
        </p:nvPicPr>
        <p:blipFill>
          <a:blip r:embed="rId1"/>
          <a:stretch/>
        </p:blipFill>
        <p:spPr>
          <a:xfrm>
            <a:off x="3048120" y="3352680"/>
            <a:ext cx="2614320" cy="3124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9"/>
          <p:cNvSpPr/>
          <p:nvPr/>
        </p:nvSpPr>
        <p:spPr>
          <a:xfrm>
            <a:off x="1447920" y="2895480"/>
            <a:ext cx="152388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( )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8" name="Text Box 50"/>
          <p:cNvSpPr/>
          <p:nvPr/>
        </p:nvSpPr>
        <p:spPr>
          <a:xfrm>
            <a:off x="5715000" y="2971800"/>
            <a:ext cx="1143000" cy="1617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oper Black"/>
              </a:rPr>
              <a:t>+</a:t>
            </a:r>
            <a:endParaRPr b="0" lang="en-US" sz="10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7238880" y="4648320"/>
            <a:ext cx="1143000" cy="1312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Text Box 52"/>
          <p:cNvSpPr/>
          <p:nvPr/>
        </p:nvSpPr>
        <p:spPr>
          <a:xfrm>
            <a:off x="304920" y="4419720"/>
            <a:ext cx="1447560" cy="16178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ooper Black"/>
              </a:rPr>
              <a:t>-</a:t>
            </a:r>
            <a:endParaRPr b="0" lang="en-US" sz="10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1" name="Text Box 54"/>
          <p:cNvSpPr/>
          <p:nvPr/>
        </p:nvSpPr>
        <p:spPr>
          <a:xfrm>
            <a:off x="304920" y="380880"/>
            <a:ext cx="1447560" cy="131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Text Box 55"/>
          <p:cNvSpPr/>
          <p:nvPr/>
        </p:nvSpPr>
        <p:spPr>
          <a:xfrm>
            <a:off x="7238880" y="380880"/>
            <a:ext cx="137160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88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99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438280" y="220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124080" y="320040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+</a:t>
            </a:r>
            <a:r>
              <a:rPr b="0" lang="en-US" sz="66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352680" y="419112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11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191120" y="5105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+ 6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(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)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6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1240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(10)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0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28600" y="1295280"/>
            <a:ext cx="8534520" cy="518184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5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6-2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5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200400" y="3429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8000" spc="-1" strike="noStrike">
                <a:solidFill>
                  <a:srgbClr val="cc0000"/>
                </a:solidFill>
                <a:latin typeface="Cooper Black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809880" y="45720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ff99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1600" y="1219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 10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752480" y="2133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514600" y="3124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4+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276720" y="4267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4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962520" y="5029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e3c7c1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143000" y="12193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4191120"/>
            <a:ext cx="2895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7400" y="2666880"/>
            <a:ext cx="4952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981080" y="2438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+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100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590920" y="35812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733920" y="44956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1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cc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7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52480" y="2209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–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362320" y="31240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+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59 - 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99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1600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9 x 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-19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05120" y="2590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64</a:t>
            </a:r>
            <a:r>
              <a:rPr b="1" lang="en-US" sz="7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lang="en-US" sz="7000" spc="-1" strike="noStrike" u="sng">
                <a:solidFill>
                  <a:srgbClr val="cc0000"/>
                </a:solidFill>
                <a:uFillTx/>
                <a:latin typeface="Cooper Black"/>
              </a:rPr>
              <a:t>27 </a:t>
            </a:r>
            <a:r>
              <a:rPr b="0" lang="en-US" sz="7000" spc="-1" strike="noStrike" u="sng">
                <a:solidFill>
                  <a:srgbClr val="000000"/>
                </a:solidFill>
                <a:uFillTx/>
                <a:latin typeface="Cooper Black"/>
              </a:rPr>
              <a:t>–19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)</a:t>
            </a:r>
            <a:r>
              <a:rPr b="0" lang="en-US" sz="7200" spc="-1" strike="noStrike" u="sng">
                <a:solidFill>
                  <a:srgbClr val="ffffff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048120" y="3809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66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91120" y="50292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</a:t>
            </a: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Have fun doing the Order of </a:t>
            </a:r>
            <a:r>
              <a:rPr b="0" lang="en-US" sz="1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Operations!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ubway"/>
              </a:rPr>
              <a:t>The </a:t>
            </a:r>
            <a:r>
              <a:rPr b="0" lang="en-US" sz="5400" spc="-1" strike="noStrike">
                <a:solidFill>
                  <a:srgbClr val="ff0066"/>
                </a:solidFill>
                <a:latin typeface="Subway"/>
              </a:rPr>
              <a:t>Order of Operations</a:t>
            </a:r>
            <a:r>
              <a:rPr b="0" lang="en-US" sz="5400" spc="-1" strike="noStrike">
                <a:solidFill>
                  <a:srgbClr val="ffffff"/>
                </a:solidFill>
                <a:latin typeface="Subway"/>
              </a:rPr>
              <a:t> tells us how to do a math problem with more than one operation, in the correct order.</a:t>
            </a: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Owner\Application Data\Microsoft\Media Catalog\Downloaded Clips\cl0\na00647_.wmf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162920" cy="22096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lease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xcuse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ear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unt </a:t>
            </a:r>
            <a:r>
              <a:rPr b="0" lang="en-US" sz="7200" spc="-1" strike="noStrike">
                <a:solidFill>
                  <a:srgbClr val="000000"/>
                </a:solidFill>
                <a:latin typeface="Boulder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Boulder"/>
              </a:rPr>
              <a:t>all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C:\Documents and Settings\Owner\Application Data\Microsoft\Media Catalog\Downloaded Clips\cl0\AG00308_.gif"/>
          <p:cNvPicPr/>
          <p:nvPr/>
        </p:nvPicPr>
        <p:blipFill>
          <a:blip r:embed="rId1"/>
          <a:stretch/>
        </p:blipFill>
        <p:spPr>
          <a:xfrm>
            <a:off x="5334120" y="3048120"/>
            <a:ext cx="2193840" cy="314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14400" y="3048120"/>
            <a:ext cx="3657600" cy="314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oper Black"/>
              </a:rPr>
              <a:t>This will help to you to remember the order of operations.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8"/>
          <p:cNvSpPr/>
          <p:nvPr/>
        </p:nvSpPr>
        <p:spPr>
          <a:xfrm>
            <a:off x="1676520" y="4952880"/>
            <a:ext cx="3657600" cy="2454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ubtract -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676520" y="3124080"/>
            <a:ext cx="3733560" cy="178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457200" y="1143000"/>
            <a:ext cx="990720" cy="838080"/>
          </a:xfrm>
          <a:prstGeom prst="flowChartConnector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oudy Stout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533520" y="2057400"/>
            <a:ext cx="990360" cy="9144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33520" y="3048120"/>
            <a:ext cx="1066680" cy="1600200"/>
          </a:xfrm>
          <a:prstGeom prst="flowChartConnec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533520" y="4800600"/>
            <a:ext cx="914400" cy="1600200"/>
          </a:xfrm>
          <a:prstGeom prst="flowChartConnector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76520" y="1143000"/>
            <a:ext cx="5333760" cy="825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arentheses (    )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752480" y="2133720"/>
            <a:ext cx="5029200" cy="173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Exponents  4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8" name="Picture 23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6348240" y="3581280"/>
            <a:ext cx="2130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80880" y="1447920"/>
            <a:ext cx="8458200" cy="4087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Parentheses (    )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2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99072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3"/>
          <p:cNvSpPr/>
          <p:nvPr/>
        </p:nvSpPr>
        <p:spPr>
          <a:xfrm>
            <a:off x="26668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parentheses 1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28600" y="1295280"/>
            <a:ext cx="8686800" cy="594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Exponents 4</a:t>
            </a: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7" name="Picture 13" descr="C:\Documents and Settings\Owner\Application Data\Microsoft\Media Catalog\Downloaded Clips\cl0\AG00312_.gif"/>
          <p:cNvPicPr/>
          <p:nvPr/>
        </p:nvPicPr>
        <p:blipFill>
          <a:blip r:embed="rId1"/>
          <a:stretch/>
        </p:blipFill>
        <p:spPr>
          <a:xfrm>
            <a:off x="696960" y="2743200"/>
            <a:ext cx="2502000" cy="3581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4"/>
          <p:cNvSpPr/>
          <p:nvPr/>
        </p:nvSpPr>
        <p:spPr>
          <a:xfrm>
            <a:off x="28954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Exponents 2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80880" y="1219320"/>
            <a:ext cx="7239240" cy="5330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82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95280" y="3809880"/>
            <a:ext cx="1970280" cy="2819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3"/>
          <p:cNvSpPr/>
          <p:nvPr/>
        </p:nvSpPr>
        <p:spPr>
          <a:xfrm>
            <a:off x="3352680" y="2971800"/>
            <a:ext cx="4572000" cy="2819520"/>
          </a:xfrm>
          <a:prstGeom prst="wedgeEllipseCallout">
            <a:avLst>
              <a:gd name="adj1" fmla="val -50069"/>
              <a:gd name="adj2" fmla="val 50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multiplication and division 3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219320"/>
            <a:ext cx="8077320" cy="38721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Subtract -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19320" y="380988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3"/>
          <p:cNvSpPr/>
          <p:nvPr/>
        </p:nvSpPr>
        <p:spPr>
          <a:xfrm>
            <a:off x="3276720" y="3886200"/>
            <a:ext cx="4572000" cy="2209680"/>
          </a:xfrm>
          <a:prstGeom prst="wedgeEllipseCallout">
            <a:avLst>
              <a:gd name="adj1" fmla="val -50069"/>
              <a:gd name="adj2" fmla="val 50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addition and subtraction 4th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Let</a:t>
            </a:r>
            <a:r>
              <a:rPr b="0" lang="ja-JP" sz="1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s Try Some  </a:t>
            </a:r>
            <a:r>
              <a:rPr b="0" lang="en-US" sz="1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3000" spc="-1" strike="noStrike">
                <a:solidFill>
                  <a:srgbClr val="ffffff"/>
                </a:solidFill>
                <a:latin typeface="Boulder"/>
              </a:rPr>
              <a:t> Problems!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1:45Z</dcterms:created>
  <dc:creator>Jennifer</dc:creator>
  <dc:description/>
  <dc:language>en-US</dc:language>
  <cp:lastModifiedBy>kim.nelson Nelson</cp:lastModifiedBy>
  <dcterms:modified xsi:type="dcterms:W3CDTF">2011-10-24T05:58:57Z</dcterms:modified>
  <cp:revision>23</cp:revision>
  <dc:subject/>
  <dc:title>PowerPoint Presentation</dc:title>
</cp:coreProperties>
</file>